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0EB6-5EE0-4859-AA37-00FF716BA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5734-0595-4098-8495-3F71CD8A8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DCC3-7B9C-4778-A1DB-A788C3F37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874E-C1FD-4863-9CD8-86C811DD2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79B0C-D322-49A9-8E64-D28584944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3D676-48C1-4B8C-9FFA-B00C66D86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75E1E-91A7-4C25-B092-BDE33972C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2B00D-33D8-4564-A0CA-7C03728E6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103BF-35C4-4D03-BE72-2CEBBD3E6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90FA0-1ABF-4306-95F6-5D1D2BC5E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626AD-0C37-4E7C-AE08-FFDF5D1E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18A8-302F-4143-8328-5DF4E1FDB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4B3D3-BC23-4717-913F-EBA8D1C7C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5CB57-02E5-4DC2-909E-2985ED9D6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01900-4B0E-4AA7-8085-8FEBA79CA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F3001-B376-432F-A27D-7537D6D2C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763F2-BCA0-46A7-B956-5F03C9BB0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F97E-665F-41ED-B31A-B8610FE79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81B8-9150-4736-8AB7-74DD75EE1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0C2D-C379-4FFF-92EA-B10EFD317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B858-AEEB-45A6-ADDB-F4E74B74E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8B2D-A2F3-4B63-BC95-3E93CCB8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2BBD-E1CB-484C-BC22-7EAD8037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4C79-5424-448D-9D73-05CC84769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926FC-CAFC-41A0-A520-CFF81D4E72A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DE529-3832-4E79-A5BE-D0A8D1FDEF3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Arial"/>
              </a:rPr>
              <a:t>Всех ли одинаково кусают комары ?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Arial"/>
              </a:rPr>
              <a:t>Ученик :Рочева Мария,7 клас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Методы защиты от комаров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тей лучше всего защищать противомоскитными сетками или наносить средство на одежду или препаратами с минимальных содержанием действующего вещества (6 -10%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тивопоказаны репелленты также беременным женщинам и людям с заболеваниями кож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пугивающим средством является электрофумигато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помещении лучшая защита  — мелкие сетки на окнах, вентилятор, установленный у кроват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ыстро действует (уничтожающий) аэрозоль, но увлекаться не стоит, т.к. они самые токсичные из средств. На время обработки помещений изолируйте ваших домашних питомцев, накройте аквариумы с рыбами, а сами обработав помещение, покиньте его на некоторое врем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Цель и задачи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332280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Цель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исследовать всех ли одинаково кусают кома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067280" y="1557360"/>
            <a:ext cx="461952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Задачи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знать кто такой комар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чему кусает комар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знать, как комары находят свои жертв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чему комары кусают не всех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ределить время максимальной активности комар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иск и описание методов защиты от комар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Кто такой комар?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691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ары - насекомые отряда двукрылых (Diptera )у них развита только одна пара крыльев (передняя), большая группа членистоноги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292720" y="1700280"/>
            <a:ext cx="339408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cc"/>
                </a:solidFill>
                <a:latin typeface="Arial"/>
              </a:rPr>
              <a:t>Почему кусает комар?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787640" y="1599840"/>
            <a:ext cx="4105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мка комара кусает, так как для полного дозревания яичек необходима  кров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мцы не пьют кров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57200" y="1700280"/>
            <a:ext cx="389880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99"/>
                </a:solidFill>
                <a:latin typeface="Arial"/>
              </a:rPr>
              <a:t>Как комары находят свои жертвы?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59280" y="1483920"/>
            <a:ext cx="562752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итягательным образом действует запах тела. Особенно привлекают пот (выделяются ферамоны), температура тела, выделение углекислого газа, а у людей — также цвет и поверхность одежд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2266920" cy="26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Почему комары кусают не всех?</a:t>
            </a:r>
            <a:br>
              <a:rPr sz="3200"/>
            </a:b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ем выше у вас температура тела, тем больше вероятность стать комариным обед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 потом у людей выделяются привлекающие (вырабатываются у всех людей) и отпугивающие(только у некоторых) вещес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 одной из версий, отпугивающие компоненты пахнут для комаров сильнее, чем привлекающие. По другой — люди, которых комары не кусают, просто лишены запахов, привлекающих насекомы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Определить время максимальной активности комаров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28640"/>
            <a:ext cx="425916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 моим наблюдениям, комары больше всего кусают в теплые безветренные вечера или перед грозой, когда в воздухе так знойно и душн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 данным, активность зависит от метеорологических факторов: скорость воздушного течения, интенсивность освещения и температур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788000" y="1700280"/>
            <a:ext cx="3898800" cy="36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Методы защиты от комаров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сть запахи, которые отпугивают комаров: запах дыма (в том числе сигаретного), чеснока, эфирных масел, лада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44560" y="3789360"/>
            <a:ext cx="3284640" cy="21891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398920" y="3789360"/>
            <a:ext cx="267336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Методы защиты от комаров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ного химических препаратов, отпугивающих насекомых -  репеллентов. Не следует наносить репелленты на участки тела, закрытые одеждой - это увеличит количество препарата, поглощаемого кож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ролем репеллентов уже более 50 лет является диэтилтолуамид (ДЭТА, или D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547640" y="4005360"/>
            <a:ext cx="6120000" cy="25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07:17:29Z</dcterms:created>
  <dc:creator>07110</dc:creator>
  <dc:description/>
  <dc:language>en-US</dc:language>
  <cp:lastModifiedBy>07110</cp:lastModifiedBy>
  <dcterms:modified xsi:type="dcterms:W3CDTF">2009-11-30T08:16:07Z</dcterms:modified>
  <cp:revision>6</cp:revision>
  <dc:subject/>
  <dc:title>Всех ли одинаково кусают комары ?</dc:title>
</cp:coreProperties>
</file>